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C82EB-9AAA-42A3-A84D-51598E0C0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13D19-3233-4536-8666-C82212ED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2B7A8-5258-4E30-A404-C054A825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17832-0CA4-40BB-B6C1-4F229B026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447B-EC03-4E34-AAD5-9607C479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BE6A4-525F-4160-8F5B-998EE41E9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B6AF7-D5CC-40AC-9031-98237579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ECED9-D3FF-410D-A2B9-A3221441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93D30-3C39-4DB0-94D2-9B282F389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92B9C-4E63-48BF-9293-A48E33257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16E5-F0B0-446A-AFA0-D80AC059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5904F-3E06-454D-B569-5A5B72F99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1EF19-099E-403A-B1F6-66D831B94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5C2E4-C265-4760-A3A6-95190646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C4AA3-292C-4FB9-933F-1012102B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A5A7D-956B-4C31-8E29-93CBE5AC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C6605-751D-4A00-BF25-403A404C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F7C7-16E8-40BD-AD68-4D0715D0B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EBFF5-2A6C-4F03-BDFC-03DBE42B9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12E27-7008-4A11-B77F-634D7EEF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5AF3-970D-4788-9F11-79CD74F62F0D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254160" y="6172200"/>
            <a:ext cx="287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Slid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2133720" y="2631960"/>
            <a:ext cx="4267440" cy="4226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447920"/>
            <a:ext cx="6854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676520" y="830160"/>
            <a:ext cx="1218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5" descr=""/>
          <p:cNvPicPr/>
          <p:nvPr/>
        </p:nvPicPr>
        <p:blipFill>
          <a:blip r:embed="rId7"/>
          <a:stretch/>
        </p:blipFill>
        <p:spPr>
          <a:xfrm>
            <a:off x="227160" y="357120"/>
            <a:ext cx="3049560" cy="405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6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7"/>
          <p:cNvSpPr/>
          <p:nvPr/>
        </p:nvSpPr>
        <p:spPr>
          <a:xfrm>
            <a:off x="249480" y="6172200"/>
            <a:ext cx="283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Titl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B2D7D-0AFA-47B7-A3AF-68CF24A9DBA8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8480" y="6172200"/>
            <a:ext cx="169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uter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CS 377 </a:t>
            </a:r>
            <a:br>
              <a:rPr sz="3000"/>
            </a:b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Discussion 1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3657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Fall 2015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ch like structs, except usually contain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re inherently pri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nd functions grouped by access spec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 have multiple instances (o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381560" y="3276720"/>
            <a:ext cx="293364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096920" y="3284640"/>
            <a:ext cx="22287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: Funct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wo ways to do function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 of normal w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096920" y="2378160"/>
            <a:ext cx="55609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: Funct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 of other w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189080" y="1892160"/>
            <a:ext cx="633420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that contain memory addresses to other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claration: type*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274760" y="3089160"/>
            <a:ext cx="22003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ign addresses of variables to pointers using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 values of variables that pointers point to using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following example is a true state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03200" y="2664000"/>
            <a:ext cx="3086280" cy="628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306440" y="4754520"/>
            <a:ext cx="207648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amp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mean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dres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lue a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t memory location 100 and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numPoin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t memory location 200, what are the values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54080" y="1533600"/>
            <a:ext cx="3152880" cy="120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096920" y="3679920"/>
            <a:ext cx="17337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Structs and Classe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access a field or function of a struct or class that a pointer points to, use the -&gt;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847800" y="2730600"/>
            <a:ext cx="3267000" cy="2390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61080" y="2468520"/>
            <a:ext cx="32763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/C++ Warm-up Exercise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0880" y="1219320"/>
            <a:ext cx="8153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al: Given a text file, arrange the word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g: Text file conten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come to CS377 Discussion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program output will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S377 Discussion Lab to Wel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alyze the performance of your implementation for the below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rem ipsum dolor sit amet, consectetur adipiscing el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etty bought some butter but the butter she bought was bitter, So she bought some better butter to make the bitter batter b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ue before next week's discussion section, submit through Moo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ays to solve the probl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different ways to solve this probl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Administrative Stuff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rpose of this discussion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ep up with reading and lectures (short quizz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ew course material (working out proble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fice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Wednesday : 3:00PM - 4:00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iday: 2:25PM – 3:25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oom CS207, Cub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Link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/C++ Refresher lin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fstream: class to read file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Verdana"/>
                <a:ea typeface="ＭＳ Ｐゴシック"/>
              </a:rPr>
              <a:t>http://www.cplusplus.com/doc/tutorial/fil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tline(ifstream, string): gets the next line in the file, saves to string http://www.cplusplus.com/reference/string/string/getlin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tok(char* str, const char* delim): multiple calls split the input string into multiple tokens, must specify delimiters http://www.cplusplus.com/reference/cstring/strto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ing1.compare(string2): determines if string1 is alphabetically before or after string2 http://www.cplusplus.com/reference/string/string/compar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pen(), fread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thegeekstuff.com/2012/07/c-file-handlin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 manipulation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://en.wikibooks.org/wiki/C_Programming/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Announcemen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ion Labs can be done in groups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ion Lab form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Courier New"/>
              <a:buChar char="o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: 3-6 questions (short answ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Courier New"/>
              <a:buChar char="o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nds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 C/C++ as the 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ease bring laptops for discussion la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Today: C++ Review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++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+ C/C++ warm-up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ction of data, short for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8548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371600" y="2701800"/>
            <a:ext cx="237816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difference between a structure and an arr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difference between a structure and an arr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tructure can have different data types while an array has all elements of the same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 arrayofints[2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8548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237816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 have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158840" y="2301840"/>
            <a:ext cx="2305080" cy="2295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572000" y="2216160"/>
            <a:ext cx="291456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re inherently public (access specifi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208160" y="2286000"/>
            <a:ext cx="3181320" cy="255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0:11:32Z</dcterms:created>
  <dc:creator>Amee Trivedi;Brendan Murphy</dc:creator>
  <dc:description/>
  <dc:language>en-US</dc:language>
  <cp:lastModifiedBy>Ame</cp:lastModifiedBy>
  <dcterms:modified xsi:type="dcterms:W3CDTF">2015-09-11T13:48:18Z</dcterms:modified>
  <cp:revision>15</cp:revision>
  <dc:subject/>
  <dc:title>CS 377  Discussion 1</dc:title>
</cp:coreProperties>
</file>